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F70D-0CB1-491A-BF9D-3398F96C4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B294-54A3-4160-A955-10E266D2C2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9D2F-89F0-4AE3-9660-2B852C2EA7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4447-6FDD-43E0-9264-2CFCCA49C1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DF29-90E0-4F14-88A7-BEA61BB0CA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D550-3957-43AA-A939-B5F2449A71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0F4E-FC89-45B0-A747-596F75213A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3FF7-7559-4E71-9301-0C051BBA33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084B-1185-437E-B591-F6320840B6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954B-1C10-4BD1-88B1-B523F9297B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8542-1D16-4CEC-BF35-73AEF85DE5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C18E-27E0-4D5F-B289-7B86627843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B332-6208-4BDC-A347-3B73133190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7A5B-6317-4EBA-8E33-A0CDA856BF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6A6B-2930-434D-B292-7085C860C8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60D-1A47-481E-8C4C-35B7994C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E57-81C8-4989-9F49-38C7C7AE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FA7-3D29-44BC-8AED-37AC605F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7C7-BDB1-47CB-A56F-AEC2AD11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2AE-347C-4093-8C6D-4AB87848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1F0-384A-4680-934B-91F070B8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EFB-BC16-4B68-8CCD-C5034A67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115-338A-48E4-B8DF-B1929224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328-E31A-4248-8179-20AA1EFD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5C3-3675-43CD-8D30-A6C2C9CB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054-C7A7-437B-A21E-08F3B867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6B3-F76B-4C19-9597-08B20933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8D37-B673-42E1-82B3-2A6EB0545776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ationalgeographic.com/" TargetMode="External"/><Relationship Id="rId2" Type="http://schemas.openxmlformats.org/officeDocument/2006/relationships/hyperlink" Target="http://nationalgeographic.com/portal/site/kids" TargetMode="External"/><Relationship Id="rId3" Type="http://schemas.openxmlformats.org/officeDocument/2006/relationships/hyperlink" Target="http://www.nationalgeographic.com/xpeditions/lesson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Chapter 6 GEOGRAPHY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Elementary  Social Studie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A Practical Guid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0" name="Picture 2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2819520" y="13716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Geography Software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Page 200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2" name="Picture 2" descr="C:\Program Files\Microsoft Office\MEDIA\CAGCAT10\j0297749.wmf"/>
          <p:cNvPicPr/>
          <p:nvPr/>
        </p:nvPicPr>
        <p:blipFill>
          <a:blip r:embed="rId1"/>
          <a:stretch/>
        </p:blipFill>
        <p:spPr>
          <a:xfrm>
            <a:off x="2819520" y="1676520"/>
            <a:ext cx="5279760" cy="50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Map Skills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ystematic, explicit instruction; Page 203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Various resources:  </a:t>
            </a:r>
            <a:r>
              <a:rPr b="0" lang="en-US" sz="2200" spc="-1" strike="noStrike">
                <a:solidFill>
                  <a:srgbClr val="ffffff"/>
                </a:solidFill>
                <a:latin typeface="Cambria"/>
              </a:rPr>
              <a:t>Home Depot, Cracker Barrel, online, etc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Mapmaking; Page 206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13 colonies ziploc map 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ample; peanut butter 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dough map of Florida; My 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Education Lab video- Salt Maps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</a:rPr>
              <a:t>13 Colonies Song: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Cambria"/>
              </a:rPr>
              <a:t>Sung to the tune of “Yankee Doodle”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Virginia, Georgia, Delaware, and North Carolina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Massachusetts, Maryland and South Carolina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Pennsylvania, New York!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New Hampshire and New Jersey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Rhode Island and Connecticut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These were the thirteen colonies!</a:t>
            </a: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5" name="Picture 5" descr="IMG_2635.JPG"/>
          <p:cNvPicPr/>
          <p:nvPr/>
        </p:nvPicPr>
        <p:blipFill>
          <a:blip r:embed="rId1"/>
          <a:stretch/>
        </p:blipFill>
        <p:spPr>
          <a:xfrm>
            <a:off x="5791320" y="2438280"/>
            <a:ext cx="2914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Geography Standard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Gra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S.1.G.1.1: Use physical and political/cultural maps to locate places in Florida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     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S.1.G.1.2: Identify key elements (compass rose, cardinal directions, title, key/legend with symbols) of maps and globes 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S.1.G.1.3: Construct a basic map using key elements including cardinal directions and map symbols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S.1.G.1.4: Identify a variety of physical features using a map and globe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S.1.G.1.5: Locate on maps and globes the student's local community, Florida, the Atlantic Ocean, and the Gulf of Mexico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S.1.G.1.6: Describe how location, weather, and physical environment affect the way people live in our community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Geography Standard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Gra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SS.2.G.1.1: Use different types of maps (political, physical, and thematic) to identify map elements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SS.2.G.1.2: Using maps and globes, locate the student's hometown, Florida, and North America, and locate the state capital and the national capital. 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SS.2.G.1.3: Label on a map or globe the continents, oceans, Equator, Prime Meridian, North and South Pole. 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mbria"/>
              </a:rPr>
              <a:t>SS.2.G.1.4: Use a map to locate the countries in North America (Canada, United States, Mexico, and the Caribbean Islands). 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Geography Standard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gra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S.4.G.1.1: Identify physical features of Florida.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  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S.4.G.1.2: Locate and label cultural features on a Florida map.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  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S.4.G.1.3: Explain how weather impacts Florida.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mbria"/>
              </a:rPr>
              <a:t>SS.4.G.1.4: Interpret political and physical maps using map elements (title, compass rose, cardinal directions, intermediate directions, symbols, legend, scale, longitude, latitude). 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What is Geography?         1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Geography defined:  the study of the Earth’s surface, atmosphere and people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able 6.1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What does the geographically informed person know?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National Geographic Society scope and sequence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K-1:  personal/loca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2-3:  local/state; show student sample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3-5:  state/U.S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Look at the textbook samples: find geography related skill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(p. 200 – On Your Own Activity 6.2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Geography Websites         2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Cambria"/>
                <a:hlinkClick r:id="rId1"/>
              </a:rPr>
              <a:t>www.nationalgeographic.com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www.mywonderfulworld.org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Cambria"/>
                <a:hlinkClick r:id="rId2"/>
              </a:rPr>
              <a:t>http://nationalgeographic.com/portal/site/kid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8803"/>
                </a:solidFill>
                <a:uFillTx/>
                <a:latin typeface="Cambria"/>
                <a:hlinkClick r:id="rId3"/>
              </a:rPr>
              <a:t>www.nationalgeographic.com/xpeditions/lesson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http://www.kidsgeo.com/index.php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http://www.weeklyreader.com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The 5 “Basic” Themes of Geography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p.186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L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P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H/E  I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M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R</a:t>
            </a: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e samples!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Online Geography Quizzes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www.eduplace.com/geone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www.nationalgeographic.com/geobe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www.funbrain.com/wher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www.lizardpoint.com/fun/quizhttp://www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kidsgeo.com/index.php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Activ Board Samples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lip Charts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Map &amp; Globe Skills sample; Grade 2  (GA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aire’s Hurricane sampl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Making Geography Engaging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You tell me.  (P. 193-196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How did they make the following lessons engaging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Where Born: Human Migration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chool’s Location: Land Usage and Place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Neighborhood Services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andy Bars to Pizza Toppings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Webpage"/>
          <p:cNvSpPr/>
          <p:nvPr/>
        </p:nvSpPr>
        <p:spPr>
          <a:xfrm>
            <a:off x="6934320" y="4419720"/>
            <a:ext cx="1352520" cy="1981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Trade Books 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nk of books that you know that can take your class to faraway places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hare with a partner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Varied genres:  RF, BIO., NF, Poetry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Literature Circle Role: Travel Tracer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mbria"/>
              </a:rPr>
              <a:t>Masai and I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, Sadako and the Thousand Paper Cranes, Roberto Clemente, Bill and Pete Go Down the Nile, The True Story of Pocahontas, GOT Geography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ALL 2006 073.jpg"/>
          <p:cNvPicPr/>
          <p:nvPr/>
        </p:nvPicPr>
        <p:blipFill>
          <a:blip r:embed="rId1"/>
          <a:stretch/>
        </p:blipFill>
        <p:spPr>
          <a:xfrm rot="6118800">
            <a:off x="113040" y="1340280"/>
            <a:ext cx="4867200" cy="364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March-May 2007 079.jpg"/>
          <p:cNvPicPr/>
          <p:nvPr/>
        </p:nvPicPr>
        <p:blipFill>
          <a:blip r:embed="rId2"/>
          <a:stretch/>
        </p:blipFill>
        <p:spPr>
          <a:xfrm rot="20707200">
            <a:off x="4889520" y="3049560"/>
            <a:ext cx="3871800" cy="289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5497920" y="76212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Roberto Clemente story wheel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372120" y="647712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Mexican Mariachi Band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21:59:50Z</dcterms:created>
  <dc:creator>Lee-Anne</dc:creator>
  <dc:description/>
  <dc:language>en-US</dc:language>
  <cp:lastModifiedBy>testuser</cp:lastModifiedBy>
  <dcterms:modified xsi:type="dcterms:W3CDTF">2009-03-18T15:06:34Z</dcterms:modified>
  <cp:revision>19</cp:revision>
  <dc:subject/>
  <dc:title>Chapter 6 GEOGRAPHY</dc:title>
</cp:coreProperties>
</file>